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5.wmf" ContentType="image/x-wmf"/>
  <Override PartName="/ppt/media/image22.wmf" ContentType="image/x-wmf"/>
  <Override PartName="/ppt/media/image21.gif" ContentType="image/gif"/>
  <Override PartName="/ppt/media/image14.png" ContentType="image/png"/>
  <Override PartName="/ppt/media/image19.wmf" ContentType="image/x-wmf"/>
  <Override PartName="/ppt/media/clap.wav" ContentType="audio/x-wav"/>
  <Override PartName="/ppt/media/image26.jpeg" ContentType="image/jpeg"/>
  <Override PartName="/ppt/media/image18.wmf" ContentType="image/x-wmf"/>
  <Override PartName="/ppt/media/image36.jpeg" ContentType="image/jpeg"/>
  <Override PartName="/ppt/media/image17.wmf" ContentType="image/x-wmf"/>
  <Override PartName="/ppt/media/image15.png" ContentType="image/png"/>
  <Override PartName="/ppt/media/image11.png" ContentType="image/png"/>
  <Override PartName="/ppt/media/image6.wmf" ContentType="image/x-wmf"/>
  <Override PartName="/ppt/media/image9.wmf" ContentType="image/x-wmf"/>
  <Override PartName="/ppt/media/image31.jpeg" ContentType="image/jpeg"/>
  <Override PartName="/ppt/media/image2.png" ContentType="image/png"/>
  <Override PartName="/ppt/media/image38.wmf" ContentType="image/x-wmf"/>
  <Override PartName="/ppt/media/image8.wmf" ContentType="image/x-wmf"/>
  <Override PartName="/ppt/media/image10.gif" ContentType="image/gif"/>
  <Override PartName="/ppt/media/drumroll.wav" ContentType="audio/x-wav"/>
  <Override PartName="/ppt/media/image33.jpeg" ContentType="image/jpeg"/>
  <Override PartName="/ppt/media/image30.jpeg" ContentType="image/jpeg"/>
  <Override PartName="/ppt/media/image7.wmf" ContentType="image/x-wmf"/>
  <Override PartName="/ppt/media/image34.jpeg" ContentType="image/jpeg"/>
  <Override PartName="/ppt/media/image37.png" ContentType="image/png"/>
  <Override PartName="/ppt/media/image29.png" ContentType="image/png"/>
  <Override PartName="/ppt/media/chimes.wav" ContentType="audio/x-wav"/>
  <Override PartName="/ppt/media/image16.png" ContentType="image/png"/>
  <Override PartName="/ppt/media/applause.wav" ContentType="audio/x-wav"/>
  <Override PartName="/ppt/media/image35.png" ContentType="image/png"/>
  <Override PartName="/ppt/media/image5.png" ContentType="image/png"/>
  <Override PartName="/ppt/media/image12.jpeg" ContentType="image/jpeg"/>
  <Override PartName="/ppt/media/image4.png" ContentType="image/png"/>
  <Override PartName="/ppt/media/image32.jpeg" ContentType="image/jpeg"/>
  <Override PartName="/ppt/media/image24.gif" ContentType="image/gif"/>
  <Override PartName="/ppt/media/image3.png" ContentType="image/png"/>
  <Override PartName="/ppt/media/image1.wmf" ContentType="image/x-wmf"/>
  <Override PartName="/ppt/media/image13.jpeg" ContentType="image/jpeg"/>
  <Override PartName="/ppt/media/image2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BF7-7E6E-4AD1-8CBD-2F0E46D7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678-19DC-4831-89BE-102697EF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D2C-533E-4D59-8BDB-4C965385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639-B91D-4239-9AD3-F0AFD9A1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CD56-4D66-4F33-9E4A-CF7E2527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4270-1167-4D20-809F-FEE7BB35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4EBA-F4D3-4206-8DC2-AF5A6CD3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D17D-40C2-4736-BCF5-794A7F35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45D7-F8D2-4C55-AE2D-71BADFAA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279D-579A-4238-8CAD-8D3016BE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7397-A48D-451E-A49C-8C2DB6EE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D2F-2AFB-4DB4-B7D7-3358BA72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7E2E-E625-402E-A0B7-D459D7D5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3485-DFE5-4B14-AEB2-60FEB6DB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1671-906C-442F-A40A-6744455E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7C81-F871-4482-8A98-9E6C414A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4E22-9EEA-4473-82F0-7D3002A5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88A-00DD-4D55-BCC5-7E259948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3BA-C5E4-489A-A0E5-8030305A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F274-43A3-40A0-9EC4-6303DC59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CE5-793A-4539-B627-E0DBAE4F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0A5-8940-4192-9FD6-6EEC28BF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592-CA02-4DD0-8ACC-DDAEE50E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C63-74F0-4212-9D90-BCE2F471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7BA9-0B22-40D8-B8E0-93D940EDABB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4799-DA69-4876-9046-FE878A5B117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1.pn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gif"/><Relationship Id="rId10" Type="http://schemas.openxmlformats.org/officeDocument/2006/relationships/image" Target="../media/image25.wmf"/><Relationship Id="rId11" Type="http://schemas.openxmlformats.org/officeDocument/2006/relationships/image" Target="../media/image26.jpeg"/><Relationship Id="rId12" Type="http://schemas.openxmlformats.org/officeDocument/2006/relationships/image" Target="../media/image11.png"/><Relationship Id="rId13" Type="http://schemas.openxmlformats.org/officeDocument/2006/relationships/image" Target="../media/image27.wmf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rds.yahoo.com/S=96062857/K=Titanic/v=2/SID=e/l=II/R=15/SS=i/OID=f7786ec8cc2aecfe/SIG=1cmbla2h0/EXP=1137791816/*-http%3A//images.search.yahoo.com/search/images/view?back=http%3A%2F%2Fimages.search.yahoo.com%2Fsearch%2Fimages%3Fp%3DTitanic%26ei%3DUTF-8%26fr%3DFP-tab-img-t%26fl%3D0%26x%3Dwrt&amp;w=335&amp;h=475&amp;imgurl=www.michieldvd.com%2Fdvd%2Freview%2Ftitanic.jpg&amp;rurl=http%3A%2F%2Fwww.michieldvd.com%2Fdvd%2Freview%2Ftitanic_r2.htm&amp;size=25.5kB&amp;name=titanic.jpg&amp;p=Titanic&amp;type=jpeg&amp;no=15&amp;tt=119,598&amp;ei=UTF-8" TargetMode="External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audio" Target="../media/chimes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11.png"/><Relationship Id="rId7" Type="http://schemas.openxmlformats.org/officeDocument/2006/relationships/image" Target="../media/image34.jpeg"/><Relationship Id="rId8" Type="http://schemas.openxmlformats.org/officeDocument/2006/relationships/audio" Target="../media/chimes.wav"/><Relationship Id="rId9" Type="http://schemas.openxmlformats.org/officeDocument/2006/relationships/audio" Target="../media/drumroll.wav"/><Relationship Id="rId10" Type="http://schemas.openxmlformats.org/officeDocument/2006/relationships/audio" Target="../media/clap.wav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2189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53f35"/>
                </a:solidFill>
                <a:latin typeface="Architects Daughter"/>
              </a:rPr>
              <a:t>Welcome </a:t>
            </a:r>
            <a:br>
              <a:rPr sz="4400"/>
            </a:br>
            <a:r>
              <a:rPr b="0" lang="en-US" sz="4400" spc="-1" strike="noStrike">
                <a:solidFill>
                  <a:srgbClr val="853f35"/>
                </a:solidFill>
                <a:latin typeface="Architects Daughter"/>
              </a:rPr>
              <a:t>To</a:t>
            </a:r>
            <a:br>
              <a:rPr sz="4400"/>
            </a:br>
            <a:r>
              <a:rPr b="0" lang="en-US" sz="4400" spc="-1" strike="noStrike">
                <a:solidFill>
                  <a:srgbClr val="853f35"/>
                </a:solidFill>
                <a:latin typeface="Architects Daughter"/>
              </a:rPr>
              <a:t>Mrs. Williams’</a:t>
            </a:r>
            <a:br>
              <a:rPr sz="4400"/>
            </a:br>
            <a:r>
              <a:rPr b="0" lang="en-US" sz="4400" spc="-1" strike="noStrike">
                <a:solidFill>
                  <a:srgbClr val="853f35"/>
                </a:solidFill>
                <a:latin typeface="Architects Daughter"/>
              </a:rPr>
              <a:t>Computer Lab</a:t>
            </a:r>
            <a:endParaRPr b="0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2421000" cy="2706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Favorite Color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235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2f1311"/>
                </a:solidFill>
                <a:latin typeface="Architects Daughter"/>
              </a:rPr>
              <a:t>PURPL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242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191120" y="1752480"/>
            <a:ext cx="2896920" cy="2173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219320" y="4495680"/>
            <a:ext cx="281916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5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3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678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20360" y="1414440"/>
            <a:ext cx="473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chitects Daughter"/>
              </a:rPr>
              <a:t>Created By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chitects Daughter"/>
              </a:rPr>
              <a:t>Chelsea, age 1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chitects Daughter"/>
              </a:rPr>
              <a:t>Mrs. Williams’ Daught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2200320" cy="2360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62720" y="3962520"/>
            <a:ext cx="1752480" cy="2468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21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523880" cy="19047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334120" y="22860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752480" y="2057400"/>
            <a:ext cx="5029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chitects Daughter"/>
              </a:rPr>
              <a:t>All About Your Teache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chitects Daughter"/>
              <a:ea typeface="Architects Daught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chitects Daughter"/>
              </a:rPr>
              <a:t>Mrs. William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chitects Daughter"/>
              <a:ea typeface="Architects Daughter"/>
            </a:endParaRPr>
          </a:p>
        </p:txBody>
      </p:sp>
    </p:spTree>
  </p:cSld>
  <p:transition spd="slow" advTm="4000">
    <p:wedge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88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Education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Reidsville Senior HS (Diploma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RCC (Transferred to NCCU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North Carolina Central University Durham, NC (Bachelor’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Appalachian State University    Boone, NC (Master’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952880" y="4800600"/>
            <a:ext cx="1376640" cy="1790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990720" y="5029200"/>
            <a:ext cx="2361960" cy="1555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6248520" y="3049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6477120" y="3581280"/>
            <a:ext cx="1190520" cy="1228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9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Family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629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chitects Daughter"/>
              </a:rPr>
              <a:t>Two Daughter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5120" y="2349360"/>
            <a:ext cx="24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chitects Daughter"/>
              </a:rPr>
              <a:t>Husband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886200" y="1676520"/>
            <a:ext cx="3809880" cy="2209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04920" y="3352680"/>
            <a:ext cx="3581280" cy="2951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5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Favorite Foods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2448000" cy="2171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343400" y="2286000"/>
            <a:ext cx="3141720" cy="1898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3043080" cy="2318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343400" y="4648320"/>
            <a:ext cx="2297160" cy="1838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5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Favorite Hobbies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9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Music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Cook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Mov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Travel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Badmint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Comput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6019920" y="1371600"/>
            <a:ext cx="1447560" cy="1357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5410080" y="4800600"/>
            <a:ext cx="2281320" cy="1401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3200400" y="1752480"/>
            <a:ext cx="1747800" cy="26686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2819520" y="4952880"/>
            <a:ext cx="1819080" cy="1158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1"/>
          <a:stretch/>
        </p:blipFill>
        <p:spPr>
          <a:xfrm>
            <a:off x="5638680" y="3048120"/>
            <a:ext cx="1905120" cy="1360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2"/>
          <a:stretch/>
        </p:blipFill>
        <p:spPr>
          <a:xfrm>
            <a:off x="16765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3"/>
          <a:stretch/>
        </p:blipFill>
        <p:spPr>
          <a:xfrm>
            <a:off x="609480" y="4876920"/>
            <a:ext cx="1822680" cy="1487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14" name="chimes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5715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Favorite TV Show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9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Grey’s Anatom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American Ido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X Fact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HGT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Image Preview"/>
          <p:cNvPicPr/>
          <p:nvPr/>
        </p:nvPicPr>
        <p:blipFill>
          <a:blip r:embed="rId5"/>
          <a:stretch/>
        </p:blipFill>
        <p:spPr>
          <a:xfrm>
            <a:off x="4343400" y="1905120"/>
            <a:ext cx="2438280" cy="177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838080" y="4267080"/>
            <a:ext cx="4667400" cy="1814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7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Favorite Movies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9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Titanic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Noteboo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Facing the Gia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Beauty and the Beas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523880"/>
            <a:ext cx="2305080" cy="25146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Go to fullsize image"/>
          <p:cNvPicPr/>
          <p:nvPr/>
        </p:nvPicPr>
        <p:blipFill>
          <a:blip r:embed="rId7"/>
          <a:stretch/>
        </p:blipFill>
        <p:spPr>
          <a:xfrm>
            <a:off x="2133720" y="4038480"/>
            <a:ext cx="2355840" cy="2514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8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Favorite Music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9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Gosp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Contemporary Christi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Jazz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800600" y="3733920"/>
            <a:ext cx="2590920" cy="2549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3962520" y="1676520"/>
            <a:ext cx="3617640" cy="1636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505320" y="4191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1828800" y="3657600"/>
            <a:ext cx="26049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8" name="chimes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0:54:21Z</dcterms:created>
  <dc:creator>380-Student</dc:creator>
  <dc:description/>
  <dc:language>en-US</dc:language>
  <cp:lastModifiedBy> </cp:lastModifiedBy>
  <dcterms:modified xsi:type="dcterms:W3CDTF">2012-08-13T03:05:11Z</dcterms:modified>
  <cp:revision>10</cp:revision>
  <dc:subject/>
  <dc:title>All about your teacher, Mrs. Williams</dc:title>
</cp:coreProperties>
</file>